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APPLAUSE.WAV" ContentType="audio/x-wav"/>
  <Override PartName="/ppt/media/image3.wmf" ContentType="image/x-wmf"/>
  <Override PartName="/ppt/media/image4.wmf" ContentType="image/x-wmf"/>
  <Override PartName="/ppt/media/GUNSHOT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110-42D5-4DB1-9CEA-234BF6A1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E85-C6FA-496E-81F4-C8D83A09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049-63D3-4218-B4FF-DD089473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FBA-6BC3-44C0-AD47-FCC46C0D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9A5A-C0C3-4EAA-85AC-8A815ED7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0FDE-7B33-40B7-A0E2-DAFC91C0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3BD6-2F7C-436E-87C5-9E1CAD9B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3876-3721-47D6-89C4-295FEE81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6BB2-4489-45F4-B2B2-07FF5093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B8E9-984A-4446-8A86-F1E58737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918B-F4BA-4A3F-9EA7-75D552A6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FFC-04B0-4301-B9C3-ECC5933B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1A1B-5F12-4B3A-9F0C-3567FBC4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45DA-D228-4EE9-B6AA-5DB591B5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D31B-B149-401A-B02E-8EA36C98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5C7E-8D1A-4247-83BF-22A5A907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FCB0-E929-4D64-A247-32A1DF0B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ACD-C7B7-4F94-B712-C8087934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A39-476C-4777-AAAE-7286EBC3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829-7099-43DC-8772-13C51EED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0A7-2ABA-4B48-853F-1D8E5E62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76A-2957-4A5C-B4D9-EE47B579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6E1-82B5-44E4-AD80-9F2094ED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0B1D-2F54-44C1-B610-1A5BEECC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DC1F-55E1-47E8-B68F-2971479A5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5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1639800"/>
                  <a:gd name="textAreaBottom" fmla="*/ 1640160 h 1639800"/>
                </a:gdLst>
                <a:ahLst/>
                <a:rect l="textAreaLeft" t="textAreaTop" r="textAreaRight" b="textAreaBottom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>
                  <a:gd name="textAreaLeft" fmla="*/ 0 w 1308240"/>
                  <a:gd name="textAreaRight" fmla="*/ 1308600 w 1308240"/>
                  <a:gd name="textAreaTop" fmla="*/ 0 h 1909800"/>
                  <a:gd name="textAreaBottom" fmla="*/ 1910160 h 1909800"/>
                </a:gdLst>
                <a:ahLst/>
                <a:rect l="textAreaLeft" t="textAreaTop" r="textAreaRight" b="textAreaBottom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8413-27BA-49F5-8AF6-FF298EE37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6"/>
          <p:cNvSpPr/>
          <p:nvPr/>
        </p:nvSpPr>
        <p:spPr>
          <a:xfrm>
            <a:off x="3124080" y="2286000"/>
            <a:ext cx="4953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Times New Roman"/>
              </a:rPr>
              <a:t>El Imperfecto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669960" y="1514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046520" y="1819440"/>
            <a:ext cx="41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ngs that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us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 hap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954720" y="265752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uando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era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ven me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gustab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r al parqu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dos los dí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726640" y="3724200"/>
            <a:ext cx="578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I was young I used to like go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 the park every 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459000" y="1819440"/>
            <a:ext cx="57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laces,objects and peopl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(in the pas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44040" y="2657520"/>
            <a:ext cx="74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 chica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r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lta,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tení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el pelo largo y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llevab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gaf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55920" y="3648240"/>
            <a:ext cx="704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girl was tall, had long hair and wore g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035000" y="1666800"/>
            <a:ext cx="716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ckground description that is secondary to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in action (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in the pa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600200" y="2962440"/>
            <a:ext cx="715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ra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las doce de la noche.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ací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viento y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lloví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 El asesin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tró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en la casa con una pistol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096920" y="4562640"/>
            <a:ext cx="786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was midnight. It was windy and it was raining.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rderer entered the house with a pist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actic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ando yo ___________ (ser) niñ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empre ____________ (jugar) con mis bloq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 hermano le ____________ (gustar) trepar a los árbo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 hermana no ____________ (comer) los legumb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 _____________ (salir) con amigos para el parq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1066680" y="1981080"/>
            <a:ext cx="7239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imperfect tense in Spanish is used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scribe things that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us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 hap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laces,objects and people (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in the pa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background description that is secondary to the main 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27320" y="1819440"/>
            <a:ext cx="85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formed by taking the stem of the infinitive and ad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endings as fol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56400" y="3038400"/>
            <a:ext cx="30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 verbs  e.g. habl</a:t>
            </a:r>
            <a:r>
              <a:rPr b="0" lang="en-GB" sz="2800" spc="-1" strike="noStrike">
                <a:solidFill>
                  <a:srgbClr val="ff9933"/>
                </a:solidFill>
                <a:latin typeface="Times New Roman"/>
              </a:rPr>
              <a:t>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003320" y="357192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 habl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990720" y="4267080"/>
            <a:ext cx="19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ú habl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b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066680" y="5029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Él/ella/usted habl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495680" y="358128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sotros habl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ába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571640" y="4267080"/>
            <a:ext cx="28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osotros habl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b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4495680" y="5029200"/>
            <a:ext cx="44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llos/ellas/ustedes habl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b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205640" y="197172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r  ver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34520" y="273384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 com</a:t>
            </a:r>
            <a:r>
              <a:rPr b="0" lang="en-GB" sz="2800" spc="-1" strike="noStrike">
                <a:solidFill>
                  <a:srgbClr val="ff9933"/>
                </a:solidFill>
                <a:latin typeface="Times New Roman"/>
              </a:rPr>
              <a:t>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06720" y="34290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 com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80880" y="40384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ú com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80880" y="4648320"/>
            <a:ext cx="29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Él/ella/usted com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830760" y="3429000"/>
            <a:ext cx="31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sotros com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886200" y="4038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osotros com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962520" y="4638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llos/ellas/ustedes com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7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7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7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7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49480" y="197172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 viv</a:t>
            </a:r>
            <a:r>
              <a:rPr b="0" lang="en-GB" sz="2800" spc="-1" strike="noStrike">
                <a:solidFill>
                  <a:srgbClr val="ff9933"/>
                </a:solidFill>
                <a:latin typeface="Times New Roman"/>
              </a:rPr>
              <a:t>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323360" y="265752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 viv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32800" y="311472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ú viv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894600" y="3495600"/>
            <a:ext cx="27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Él/ella/usted viv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343400" y="2581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sotros viv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343400" y="3038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osotros viv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343400" y="35053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llos/ellas/ustedes viv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í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717480" y="143820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R ver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7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7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7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7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7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7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203480" y="1971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Object 3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219560" cy="357012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4"/>
          <p:cNvSpPr/>
          <p:nvPr/>
        </p:nvSpPr>
        <p:spPr>
          <a:xfrm>
            <a:off x="2514600" y="1676520"/>
            <a:ext cx="3352680" cy="1523880"/>
          </a:xfrm>
          <a:prstGeom prst="wedgeRectCallout">
            <a:avLst>
              <a:gd name="adj1" fmla="val 56296"/>
              <a:gd name="adj2" fmla="val 35208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uess the good new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432080" y="1895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Object 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1295280" cy="39337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4"/>
          <p:cNvSpPr/>
          <p:nvPr/>
        </p:nvSpPr>
        <p:spPr>
          <a:xfrm>
            <a:off x="3657600" y="2209680"/>
            <a:ext cx="3657600" cy="1981440"/>
          </a:xfrm>
          <a:prstGeom prst="wedgeRoundRectCallout">
            <a:avLst>
              <a:gd name="adj1" fmla="val -104296"/>
              <a:gd name="adj2" fmla="val -23319"/>
              <a:gd name="adj3" fmla="val 16667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are on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3 irregul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erbs in the imperfec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763200" y="1847880"/>
            <a:ext cx="1875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ÉRA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R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200400" y="1447920"/>
            <a:ext cx="17654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B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ÍBA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B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B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019920" y="1371600"/>
            <a:ext cx="22096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Í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ÍA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Í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Í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812960" y="2886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Object 3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4708440" cy="3733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5089680" y="3038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Object 5" descr=""/>
          <p:cNvPicPr/>
          <p:nvPr/>
        </p:nvPicPr>
        <p:blipFill>
          <a:blip r:embed="rId2"/>
          <a:stretch/>
        </p:blipFill>
        <p:spPr>
          <a:xfrm>
            <a:off x="1298520" y="2575080"/>
            <a:ext cx="6546960" cy="17064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4782240" y="174312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imperf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279520" y="30384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eter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884160" y="4943520"/>
            <a:ext cx="68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imperfect sets the scene in the past and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terite ‘crashes’into it, with a single 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8:36:28Z</dcterms:created>
  <dc:creator>Wirral Girls</dc:creator>
  <dc:description/>
  <dc:language>en-US</dc:language>
  <cp:lastModifiedBy>jkaplan</cp:lastModifiedBy>
  <cp:lastPrinted>2002-11-20T20:30:30Z</cp:lastPrinted>
  <dcterms:modified xsi:type="dcterms:W3CDTF">2011-05-20T14:33:59Z</dcterms:modified>
  <cp:revision>4</cp:revision>
  <dc:subject/>
  <dc:title>No Slide Title</dc:title>
</cp:coreProperties>
</file>